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89331"/>
        <c:axId val="1470454"/>
      </c:barChart>
      <c:catAx>
        <c:axId val="51789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0454"/>
        <c:crosses val="autoZero"/>
        <c:auto val="1"/>
        <c:lblAlgn val="ctr"/>
        <c:lblOffset val="100"/>
        <c:noMultiLvlLbl val="0"/>
      </c:catAx>
      <c:valAx>
        <c:axId val="1470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89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D74-1738-4679-A818-EDCAF823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8AE-6A9D-4CB6-8018-B98CF3E1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369-4AFC-4E10-9DC4-2BE1B6CF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137-FA80-4292-8465-0A76C7A8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967-3FCB-4F45-8660-436F19A8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719-31EB-47FF-B6B2-DD180FDE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BD1-13E0-43DD-9E1A-8D43F64C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473-AE62-47E0-8CF5-3EAA384C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68E-8995-4B9A-91E1-D072F5C2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84C-96F1-4DFC-A2CC-052DE31D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BE0-7CAF-4928-8D17-F6DF45EE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8D7-E173-4F7B-AF68-8D07A669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B0460-1968-4702-8181-4C2C98D173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