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80280"/>
        <c:axId val="57098868"/>
      </c:barChart>
      <c:catAx>
        <c:axId val="86780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8868"/>
        <c:crosses val="autoZero"/>
        <c:auto val="1"/>
        <c:lblAlgn val="ctr"/>
        <c:lblOffset val="100"/>
        <c:noMultiLvlLbl val="0"/>
      </c:catAx>
      <c:valAx>
        <c:axId val="57098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0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D7F-73A1-4F1B-AD1D-E671E179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84D-FECC-4D50-B052-DF80EAD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022-599C-4F79-BA5F-058F3950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914-9EF3-426A-8E53-E353124D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551-9792-4F4A-AF8A-CAC12EA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462-B3DB-41BA-B8BF-98E6BFF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1DA-04D6-4919-AB37-2F96006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821-3836-4449-9FBA-3F5218E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751-38AA-442B-9BC1-7BB3913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EB3-8D1F-4D68-87C6-96550FD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1DF-88B4-4B36-81F5-DEB6F3C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F8D-91D0-4FE2-AE58-8BF1F98C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6EBC7-EC7A-4AE6-AE6F-0766901F59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