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17308"/>
        <c:axId val="42316315"/>
      </c:barChart>
      <c:catAx>
        <c:axId val="22717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16315"/>
        <c:crosses val="autoZero"/>
        <c:auto val="1"/>
        <c:lblAlgn val="ctr"/>
        <c:lblOffset val="100"/>
        <c:noMultiLvlLbl val="0"/>
      </c:catAx>
      <c:valAx>
        <c:axId val="42316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17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EAD-F973-4A11-9CF6-D1265793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76A-D95B-4CB9-ACCE-6C40D3A5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CBF-A728-4BEE-8B66-E9846ACE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0AD-B6CB-487D-A1B5-F5B603C9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E14-8013-4B36-991F-C07892CB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B25-0DE6-4E1E-80A0-6A95DC9D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F2F-46BE-44E2-8070-BF09FE0F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E49-E2E8-4636-BB22-FCCBE6DE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A8F-5BB4-46E5-8BAE-953C5F7D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C3C-1098-4374-AFCC-78BEFB8E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331-5CD3-44F3-A14B-B084622E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945-991C-4FF8-8331-01233854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AB9A1-CE2C-4BD0-9741-3B36C7084C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