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3382004"/>
        <c:axId val="11834463"/>
      </c:barChart>
      <c:catAx>
        <c:axId val="2338200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834463"/>
        <c:crosses val="autoZero"/>
        <c:auto val="1"/>
        <c:lblAlgn val="ctr"/>
        <c:lblOffset val="100"/>
        <c:noMultiLvlLbl val="0"/>
      </c:catAx>
      <c:valAx>
        <c:axId val="1183446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38200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0BB11-E6C8-4F92-8D69-2C37A5599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FDD26-70A1-4E53-BBA9-84C15C1B8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5109C-FAFE-47F6-A61C-9B42CBE93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B3DCC-D013-4553-B8DD-77D3A1B3A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814D0-2829-4885-A369-85330FBB5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48983-482A-4502-8980-3E6BAF214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184B9-46D4-4F8D-9920-1239B2221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51356-8B96-4EDB-8C76-C29CD475F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9434C-EF34-44F1-A7AF-410E177B5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57297-31E9-4A4D-AC91-2982CF08F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38035-673F-4E17-AC77-71CD422AE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4882A-23F9-433E-9BA5-227A9192B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F87472-3057-478F-B500-4A03A4A1843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