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2934"/>
        <c:axId val="88796017"/>
      </c:barChart>
      <c:catAx>
        <c:axId val="15052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6017"/>
        <c:crosses val="autoZero"/>
        <c:auto val="1"/>
        <c:lblAlgn val="ctr"/>
        <c:lblOffset val="100"/>
        <c:noMultiLvlLbl val="0"/>
      </c:catAx>
      <c:valAx>
        <c:axId val="88796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2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B81-F311-4D42-962D-23A4AAA9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FF4-83E1-49D4-8255-31474A0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CDD-7E97-4B27-9496-C9364087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FCE-145A-43C9-9E36-3E1149A1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427-88B3-4D8C-A33D-FEF3BD9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D98-B37D-4C97-98B5-D696209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318-031E-477B-8C3E-01630776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03E-933E-467D-A694-C46ABEDC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0DD-46BE-4195-AD77-194A0A45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94A-D5AA-41CD-B0ED-A49F9C1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0CD-EF9E-43ED-9FE8-0E5A4DD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5C6-0E1E-42D9-8B21-0EF0D03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70380-695D-44F2-B345-F15AF2CB2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