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D24312-A0F7-46CC-85BB-403298418E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59F5A2-85C1-43F3-9A47-AFBE2CBC03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910BC4-2854-4E2A-8096-73083E4CEC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3432F1-3AEA-43C4-8D6C-DF795E2CF1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ACBDBE-6487-465E-9FD4-D494035F3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26AF74-D8DA-4EB9-A33D-F5663EFCD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7A294F-4DFA-467D-9E47-6971707B1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B1794A-E398-444C-B5F4-CE87E6373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8C72EA-FBB3-42FE-897D-D55436ED3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00D3F3-5EBA-4B65-9C0F-E25A24E30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1A0798-6115-4027-8545-8D8F6446C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8BA94D-1447-4122-A0B0-3438A8A69E8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489EED-E56D-4D3D-B373-81177ECEC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0C173D-F159-4A8A-89FA-C94AC55EF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EE8DEF-D52E-409A-92B0-76B809066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9BB830-7BBB-4FFF-901E-D7E1809DC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56F7C0-915D-4D52-8FA0-044F54906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1C117E-14AB-4FDA-BFC2-0A82432D88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8851C6-8F04-4ABF-B3C6-C4FC33EA5C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072BD9-C806-4A76-B555-8C3B51BDAE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77FBD6-2D04-4481-A3FC-B9146D9F3F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F2DEF5-B123-4DE8-953B-350435F660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41962A-42B8-4FA4-A190-B04DF51C4F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729732-9B89-48F8-9600-26591A3F2D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81309-8808-4E15-89EE-DAC735BE27E8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1C342-E291-4178-AEEB-870DD76324A5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emo(DierckxSplin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ludes examples with data discus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0"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ignette(DierckxSplin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e"/>
              </a:rPr>
              <a:t>Provides more details on the spline fitting and algorith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e"/>
              </a:rPr>
              <a:t>Includes relevant sections from DierckxSpline (199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792BEA-F115-4570-9B6F-E5E5DC83984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D93AE5-D99C-4C4D-880D-C3F8459D006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36F2EF-7952-4CF8-9D3F-73177A08503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83A2C7-A66F-4E02-B993-3510D639B99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E90A26-24A9-44D9-B063-6A3A5603FD7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66A37A-2AF1-47CB-B291-DC5D48961CB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8D11E7-0A6A-4DD1-98DB-A5EB0CC05C3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for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22045B-27E7-4348-9C5E-828BFDD75A5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E310A0-4411-4C4E-8741-DC4840DB91E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3CFABE-8A2D-4DA9-800F-E7022AEBA1C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E41D49-D125-42BD-97EA-740E08E8598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B33B2B-5A00-412C-A721-92DACD3A9B2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E843AF-8C83-4BB4-BF42-CCFB73C6085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2C33BF-97A0-4EED-8C26-A4E5B7DA21C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05T23:33:15Z</dcterms:modified>
  <cp:revision>164</cp:revision>
  <dc:subject/>
  <dc:title>minSpline: An R Package For Minimal Knot Splines</dc:title>
</cp:coreProperties>
</file>