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595FD-91D4-470F-8A76-F8AC9D721C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4CC3C-CBAC-4119-AF94-542D85E67A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5B64A-008B-4EA1-819B-1E7C6C8734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04F69-66C3-4309-9FB2-0FC8A5370A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4EFE64-71D3-4F4C-89E4-5F2D482BD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D8340D-9CA4-48B4-A30F-4220CE925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F24888-7C29-41FF-997C-ECC07AB1E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318BAA-1E31-4DC3-AFDC-5601FFDBF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2E7E68-ECBC-40E6-8FCC-5DC7B06A4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F18E98-885C-4DE5-AD0C-4584181C7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EFA34D-3ED5-469D-B58C-CBC6426F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1C245-7B5C-4255-834C-59F0180584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245AD0-83A5-43FB-99DE-9E772D5D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A238BC-68B0-409E-9DDA-8AAA358C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F9628C-53F2-4A2E-A486-858D3F571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CF62F4-F3AC-4A91-92AC-A1AE8D6C3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B9796A-C8F0-4551-B5E5-CA691C248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1F93C-C4A3-48EC-BB9E-3169AF9A06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40091-8799-4EC3-B8FE-1625C7D480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4A5E8-7026-4B95-A657-E0D9FDD136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D9A43-9E2E-47FF-9A18-DB3F8F29F9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7A415-A27C-4BF1-A535-AC99089F44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C93BE-25E5-4B75-B2D6-E17614824B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8E9CB-8E02-42FD-B40A-67FE19ECFA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6A84B-7425-486E-829B-67FE6A5724E5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63A30-A781-48B9-9479-F996EEA76A4B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27780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2D77E-6DDD-488C-B797-824372E78CD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BECC7-C083-4421-AFC7-AD2A3E5CD1E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1F671-EBF4-4825-A4D0-94FEF5C370D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knots(f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knots(f3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D2452-0972-411C-A41B-428363D4A69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9B685-E343-4247-AE4A-0BB764FA1B2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97169-B686-4F92-81C6-3A898CBC9E2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9A6A4-5342-43AE-9449-7FD844749B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542B7-BB32-44E9-8F48-B56A127D87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DA96B-F3C1-4BC7-A11D-859400172F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6CC78-91FC-4504-A16C-B7BA891864A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9202A-AEB1-4F3A-8D4B-B04AEE8FAC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F2DDD-1376-4226-A745-36BCC49BBE3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DFC77-0853-4616-883C-D4DA6B54B4B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01A3E-5CD7-46DA-BF72-36E6FF2C49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7-08-18T20:30:08Z</dcterms:modified>
  <cp:revision>162</cp:revision>
  <dc:subject/>
  <dc:title>minSpline: An R Package For Minimal Knot Splines</dc:title>
</cp:coreProperties>
</file>