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675092"/>
        <c:axId val="28399665"/>
      </c:barChart>
      <c:catAx>
        <c:axId val="45675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99665"/>
        <c:crosses val="autoZero"/>
        <c:auto val="1"/>
        <c:lblAlgn val="ctr"/>
        <c:lblOffset val="100"/>
        <c:noMultiLvlLbl val="0"/>
      </c:catAx>
      <c:valAx>
        <c:axId val="28399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75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38C-3D30-4036-A4BF-9ABE44FA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83D-180B-45D3-8DFD-425C511F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C23-7E87-4A50-A928-334EA586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AFE-9731-4F47-A232-1E41EEDD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BB8-9110-47CF-82EB-1ED9395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7C9E-7E45-47C8-AD18-A351A2DD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944-E944-4B39-A40C-DBF4A66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336-5BC8-4F26-8A13-323B673C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2FA-5626-4F38-9B30-02B8A62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37E-0C8A-490E-ADA9-C099719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74D-154E-4EBC-9C1A-F2846C0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EFB-E84A-497D-8E67-20224E81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A8AF4-068B-45B0-B59F-DCA7A9B57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