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44628"/>
        <c:axId val="61225167"/>
      </c:barChart>
      <c:catAx>
        <c:axId val="10144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5167"/>
        <c:crosses val="autoZero"/>
        <c:auto val="1"/>
        <c:lblAlgn val="ctr"/>
        <c:lblOffset val="100"/>
        <c:noMultiLvlLbl val="0"/>
      </c:catAx>
      <c:valAx>
        <c:axId val="61225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44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E1E-D427-44A0-A25D-5A8A7AAF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569-9E90-4733-BBD9-DE40EF66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1FB-929A-4230-BE05-24A07B36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477-E6D8-4F28-8636-F1992444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204-BD73-4C19-830A-31ADFB9B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276-94AA-4BEC-BACE-B2BD3253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9D9-33D7-4926-B2F9-590A5C8A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6B2-C931-4724-A25E-59F92B2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2D1-61D2-4C66-A1C2-CD77DC6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66E-3783-467B-A9AD-0F27FEC2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1C4-1AD1-421D-B18A-CACFB12E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1AB-76B2-42F7-B4DB-2ABF7C9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B0079-1A9B-4220-B570-4DCD95BC1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