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9138"/>
        <c:axId val="73479305"/>
      </c:barChart>
      <c:catAx>
        <c:axId val="20399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79305"/>
        <c:crosses val="autoZero"/>
        <c:auto val="1"/>
        <c:lblAlgn val="ctr"/>
        <c:lblOffset val="100"/>
        <c:noMultiLvlLbl val="0"/>
      </c:catAx>
      <c:valAx>
        <c:axId val="73479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9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1EA-B8CC-425E-8EF0-D0D1C898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2CA-7DBA-4B39-B412-8BCFF03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87F-E3B8-44B6-8D25-B5BEE222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A00-C21C-4035-B1BE-254D8796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8A8-B155-434A-ABC6-798DE7B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60C-89F0-40C7-88EA-DF5B4548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EA7-BD66-4F8F-B9D7-A1A9C17E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0930-423E-43B9-BD40-E9003E2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CBB-2283-47FD-B6BC-537F501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897-0627-42F0-A97D-F3769D7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AB4-F91D-4261-927B-3D6115B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4C1-78AD-4BC6-945C-F666EBF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A2497-1939-4CCE-A100-673C122A3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