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10638"/>
        <c:axId val="39840192"/>
      </c:barChart>
      <c:catAx>
        <c:axId val="59710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40192"/>
        <c:crosses val="autoZero"/>
        <c:auto val="1"/>
        <c:lblAlgn val="ctr"/>
        <c:lblOffset val="100"/>
        <c:noMultiLvlLbl val="0"/>
      </c:catAx>
      <c:valAx>
        <c:axId val="39840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10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BE7-75E1-4EF8-A083-BC9EB81A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F64-F36C-41BC-A091-A93EB993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12A-2882-4365-8DF0-57CD5DA6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D35-532E-48EC-839D-B0E57CCF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E2E-33EC-4CA3-A74B-D8C3FAC4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E8B-5247-45BF-9F36-7B20B514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482-7644-4274-A89E-CD0DC884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C55-42A9-4BFD-9859-39AC77E8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C89-892A-408B-AC25-1E0F81AC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ECE-3EC6-4883-876C-8BF9AD9C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8C0-06F0-413D-85EC-CF330690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148-584D-49BE-9466-A895C5C0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B8D9E-7C52-4B5E-9A84-6A7D3DF1A5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