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76215"/>
        <c:axId val="84501156"/>
      </c:barChart>
      <c:catAx>
        <c:axId val="87576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01156"/>
        <c:crosses val="autoZero"/>
        <c:auto val="1"/>
        <c:lblAlgn val="ctr"/>
        <c:lblOffset val="100"/>
        <c:noMultiLvlLbl val="0"/>
      </c:catAx>
      <c:valAx>
        <c:axId val="84501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6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BED-415D-4082-A535-C3C16629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962-B37E-4A71-9327-944F140C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9D6-7962-4140-81AF-4C34F9EC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6E1-31D2-44B0-B1C0-E44953C5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A8D-6447-4049-B1B9-8844CAAE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27C-F7D1-4139-AD4B-2E6BB659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7E4-A7A5-4B86-99FB-67D6538E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33B-F8AD-406C-9DE7-ED989D5D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12A-A62D-40BB-A151-1FFBDEB3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3DC-8017-457B-BB7B-687037B5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882-EC51-4722-AF1C-924550C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417-BA2C-421A-91A9-878E28A5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A5361-1122-4443-9B6C-3E6CDFB033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