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95529"/>
        <c:axId val="16565"/>
      </c:barChart>
      <c:catAx>
        <c:axId val="9949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5"/>
        <c:crosses val="autoZero"/>
        <c:auto val="1"/>
        <c:lblAlgn val="ctr"/>
        <c:lblOffset val="100"/>
        <c:noMultiLvlLbl val="0"/>
      </c:catAx>
      <c:valAx>
        <c:axId val="16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591-FD93-45D8-AD72-64ED21E0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10A-9D53-4DC4-A878-98F51CF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11F-F1EC-48C8-A0DD-8BBFE3E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63C-872F-46D5-BA03-30A73DB5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02A-ED81-43C5-9A01-ACF9ECD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D86-ADD9-40FF-B1BF-9A7E7E0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805-7B11-4480-A043-B467FC8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B8F-EF7A-4496-9469-D91DE76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76B-FA57-4AC2-9F9C-1E87011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BC4-0D55-42F8-9965-E0BE3B8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BAD-2554-4CC9-A5EF-BA73123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E6D-DB86-4E74-A22E-C095045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AC9E2-CAB5-47B4-92AD-388DC66674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