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52257"/>
        <c:axId val="36935310"/>
      </c:barChart>
      <c:catAx>
        <c:axId val="98552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35310"/>
        <c:crosses val="autoZero"/>
        <c:auto val="1"/>
        <c:lblAlgn val="ctr"/>
        <c:lblOffset val="100"/>
        <c:noMultiLvlLbl val="0"/>
      </c:catAx>
      <c:valAx>
        <c:axId val="3693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2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5F7-E155-4B08-A1D2-444384D6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156-58E0-46F8-BF2B-5E6A00B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936-0C98-47D7-B81E-CD98DA5D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7FB-1EC5-4FB2-9A73-B9080A95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813-0794-4A2A-B63E-D9CD4AF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BF8-C18E-41D3-92C2-AC0B10FA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957-E604-4348-BEDD-1F90CD5B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E0E-0486-4900-836E-8D6A1972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B02-D3BB-4527-A818-4762D1B8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A71-D147-4053-B85E-9B63CFA4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5D4-B676-4CFD-8CDD-263119C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378-B32B-4793-8712-6ADA8E7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17D28-CBDB-492C-8C47-73B3CF791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