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25069"/>
        <c:axId val="91623385"/>
      </c:barChart>
      <c:catAx>
        <c:axId val="28625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23385"/>
        <c:crosses val="autoZero"/>
        <c:auto val="1"/>
        <c:lblAlgn val="ctr"/>
        <c:lblOffset val="100"/>
        <c:noMultiLvlLbl val="0"/>
      </c:catAx>
      <c:valAx>
        <c:axId val="91623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5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F9-FB97-4B09-9904-1F691A34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15B-788E-4BB4-8E87-D701AEB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4B0-12E0-4593-BD94-E60552FF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80A-DB37-418B-A704-405992AF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1B8-CFC6-474E-9ED8-2AE10745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430-24B0-4CD4-A4A2-E85002D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0C7-47E9-4FDE-86C9-A86249A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496-94F9-4EB0-A400-35D700F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019-D1FA-4AD1-ACEF-101CBAAF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BEE-86DA-46BC-B72A-36D63E5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C06-4DF1-4678-9307-ECF0D86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164-FBE1-4980-BC84-D575AB9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16B0C-C0A3-4347-AE1E-DE6FAF0476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