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61885"/>
        <c:axId val="17778985"/>
      </c:barChart>
      <c:catAx>
        <c:axId val="94561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78985"/>
        <c:crosses val="autoZero"/>
        <c:auto val="1"/>
        <c:lblAlgn val="ctr"/>
        <c:lblOffset val="100"/>
        <c:noMultiLvlLbl val="0"/>
      </c:catAx>
      <c:valAx>
        <c:axId val="17778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61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3D5-ED85-48E6-8431-C16ABAF1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694-93C8-4CB1-A121-B8B0AC48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4ED-B740-44FF-9519-8A6C12B5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8EB-3DF6-4E18-99A0-D868C381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5D7-06C7-489B-BC84-CFF19501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E92-C3C2-47E9-94F7-10D99DB9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129-D438-457B-8B4F-4CC1A591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DBC-8EFA-4442-AD6A-6F0528F7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765-08E9-4D81-88F3-689228C5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6C2-A40A-430E-AEF6-4C6E670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17A-5E4E-48E5-9F72-3AA041A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EE4-3203-4D46-B1DD-8417E9BD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910A5-9FFE-47CF-B2C0-4FEE436DC2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