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91809"/>
        <c:axId val="60977983"/>
      </c:barChart>
      <c:catAx>
        <c:axId val="33491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77983"/>
        <c:crosses val="autoZero"/>
        <c:auto val="1"/>
        <c:lblAlgn val="ctr"/>
        <c:lblOffset val="100"/>
        <c:noMultiLvlLbl val="0"/>
      </c:catAx>
      <c:valAx>
        <c:axId val="60977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91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5D7-0EE8-46E9-AA45-DAB529F0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A6B-A960-4C40-BBC4-4CE2AF0E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1C9-2558-459D-9416-7CD550E3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559-24C2-4A62-B940-9238DAEB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52A-C864-4213-8C61-47C0E657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B8C-5E33-475C-9D93-AA140A2B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B38-C207-4E7D-9120-2BCC6114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493-6DFA-42B0-835F-56203565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FFD-9194-4412-9B18-CFA2EFE6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84E-CF37-4DAC-B9AC-BF3C0F17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722-DCAE-493E-BCD1-210ED40A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F13-0DD5-4714-A3AE-FAFB50FC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F4CF2-CA97-4780-909E-6F30D464B6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