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25529"/>
        <c:axId val="74220170"/>
      </c:barChart>
      <c:catAx>
        <c:axId val="92825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20170"/>
        <c:crosses val="autoZero"/>
        <c:auto val="1"/>
        <c:lblAlgn val="ctr"/>
        <c:lblOffset val="100"/>
        <c:noMultiLvlLbl val="0"/>
      </c:catAx>
      <c:valAx>
        <c:axId val="74220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25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166-58EA-4FA5-885E-98CB6136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45D-95F0-471B-BE7A-3C4B74CE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1EA8-1663-45BC-AEDB-2E70F38A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C94F-9025-4572-A414-BDD3467B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E2C-33C2-4643-902A-A3A20C67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3AF7-1382-4F23-8813-CBB5282C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363-3289-4DDB-8A4B-835C9846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C8FE-9061-47A9-B24C-89E8B5E1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73A1-01E6-4632-A63A-01E7AC23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1AE1-B273-4F06-9923-B21B1401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B42A-811B-4FA7-9542-233950AB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712-ED83-4EE2-8A9B-E7600E06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66593-1619-48E7-80BD-EB680F036E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