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456887"/>
        <c:axId val="23501522"/>
      </c:barChart>
      <c:catAx>
        <c:axId val="364568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501522"/>
        <c:crosses val="autoZero"/>
        <c:auto val="1"/>
        <c:lblAlgn val="ctr"/>
        <c:lblOffset val="100"/>
        <c:noMultiLvlLbl val="0"/>
      </c:catAx>
      <c:valAx>
        <c:axId val="235015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4568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2C51-DB15-4E59-AF6B-B5B7A1274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DF6F-E433-4ECA-83E0-8922955E4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6ECD-2799-48FD-A402-C6AC16C60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C1FF-E989-4E12-8CAF-54FF2C738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2EDB-BE68-4A46-927F-C68528A2D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3153-51B4-4A92-8E0A-EDEBE1D19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4F97-DB06-429D-9537-65AD1FEB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9F58-4B90-4613-BF6D-55F370E27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5E60-87C8-43C4-A3C5-3FEFA193B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4F0C-746C-4FE0-9A8B-40CAB51D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5E5B-5152-49E3-954A-1CF8B751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9DEA-2586-4654-87B6-CF8FFA2D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FE7255-71C8-4C24-8DC3-7CE6B6D034D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