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83283"/>
        <c:axId val="94774070"/>
      </c:barChart>
      <c:catAx>
        <c:axId val="25183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74070"/>
        <c:crosses val="autoZero"/>
        <c:auto val="1"/>
        <c:lblAlgn val="ctr"/>
        <c:lblOffset val="100"/>
        <c:noMultiLvlLbl val="0"/>
      </c:catAx>
      <c:valAx>
        <c:axId val="94774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3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DE4-6F0B-4CBD-A5BC-1BD20CA3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67D-0786-481C-915C-86BF0EBD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1FA-54EF-464F-BE49-DFE19866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78E-200E-4919-AEF5-5B8A38DF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B44-F0B6-4AA7-B96A-7CC98F16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9AB-9D5A-4182-B987-E99E4216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89D-A75C-4B1A-80D5-5630246E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72E-516E-4E31-BEE9-1E4C10CC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BB5-19CA-425A-B724-068A2B83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AFD-8419-4736-A8E9-04B94C46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998-1B89-45EA-8C8D-6D23893B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BCB-C49B-42AB-8536-42F95FB2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08D92-D42A-4CB6-8716-81ABEF5177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