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38179"/>
        <c:axId val="89287915"/>
      </c:barChart>
      <c:catAx>
        <c:axId val="34738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87915"/>
        <c:crosses val="autoZero"/>
        <c:auto val="1"/>
        <c:lblAlgn val="ctr"/>
        <c:lblOffset val="100"/>
        <c:noMultiLvlLbl val="0"/>
      </c:catAx>
      <c:valAx>
        <c:axId val="89287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8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1C0-49AE-4A15-ABAC-23C9CCA6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CB8-1FF2-4E13-85C4-99F5E234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5F7-7501-4A80-A93F-6608E0CB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C8F-E3D2-451E-AADD-DA418744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761-23AF-4A57-ABEC-54DD1FDE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036-E98E-44BE-9E0A-F276805D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379-0F71-44D2-B604-B3AE8896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F4E-922A-452F-8D05-C7B307E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BFB-D0DE-4364-8932-09E958A8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595-1BA1-49A6-8DD7-B4871C2F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989-C233-4211-8D46-C48C5B47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1C6-D531-4A47-9A99-1EA0ADF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CBB0A-7CE7-495F-9C59-F0BD029DF2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